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C23-AADF-4440-AD46-18DCDCF2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733F-8118-4AA3-9775-C4755639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CEE-A280-4B2C-99F5-E7ADE503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64E8-233A-4C0A-AB3D-8A3350AD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FD1-837B-4712-9602-BA21FB62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476-912C-449D-9DFA-ADFD2093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13B-D58F-4ADB-916E-37C8B1CC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CBE-5920-4930-A627-DFADAD11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9AA-A98F-46E0-A346-2B5F3DCD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2D0-3B32-404E-A9D0-DED8D5E6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1A4-1B43-4612-AC24-78F1F675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1CBF-DCD5-4ED9-A7DF-BA1F6EA4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7FA0-E001-4B6D-9DB1-74AF532835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6408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Uznatelné, neuznatelné výdaje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15328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nář pro žadat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. Johana Burget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opad/prosinec 20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056-BA11-4604-BA07-AE98456950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Uznatelné výdaj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lady projektu musí být rozepsány na jednotlivé kalendářní roky tak, jak se předpokládá čerpání prostř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natelné náklady nemohou být stanoveny jako paušální částka. Musí být skutečně vynaložené, proto níže hovoříme o uznatelných výdaj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znatelné náklady jsou náklady, které nelze hradit z veřejných prostředků. Tyto náklady hradí žadatel respektive partner vždy ze svých prostř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může mít samozřejmě i výnosy, ale žadatel nesmí mít z realizace projektu zisk, proto dostane v rámci OP RLZ uhrazeny jen výdaje - příj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F9F-F252-4348-AB9B-9B13442171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Základní kritéria uznatelných výdajů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 musí být vynaložen na činnosti uvedené v Opatření, respektive ve výz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 musí vzniknout v době platnosti rozhodnutí o poskytnutí dotace počínaje dnem potvrzení podmínek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 musí skutečně vzniknout, být řádně uhrazen a zaznamenán na účtech příjemce finanční podpory nebo jeho partnerů. Výdaj musí být identifikovatelný a kontrolovatelný, doložitelný originály účetních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8D5C-C849-402A-B106-C9FE5364F6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daje jsou rozděleny do skupin, které bohužel přesně neodpovídají běžnému účetnímu členění nákladů (respektive výdajů), ale lépe splňují potřeby ESF. Především pro účely procentuelních limitů některých skupin náklad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ýdaje – výdaje na zaměstnance žadatele a jeho projektov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ovní cesty – výdaje na ubytování, dopravu, strav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áhrady vyplacené pracovníkům českých subjektů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y na základě zákona 119/1992 S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áhrady pro pracovníky zahraničních subjektů se stanovuj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le sazeb EU (Per di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489-8142-4547-83FF-98A80022D9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řízení a vybavení – z prostředků OP RLZ nelze hradit inve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ýdaje spojené s nákupem nového, resp. použitého vybaven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zařízení u projektů zaměřených na výzkum, vývoj, neb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ý výcv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M max. 40 0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HIM max. 60 0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ýdaje na nákup drobného hmotného majetku, který je pr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i nezbytn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ájem, ev. splátky operativního leasingu zařízení a bud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odpisy vlastního dlouhodobého hmotného a nehmot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jetku, jehož využívání je nezbytné pro realizaci projektu a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o souvisí s jeho cí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946-CD0D-470C-8E16-FC9033A725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ístní kancelář/náklady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potřební a provozní mater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lefon, fax, poštovné, voda, paliva,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ájem kanceláře  - musí být zřejmá skutečná roční výš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jemného a doba po kterou byla pro realizaci projekt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uží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up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ýdaje spojené s dodáním služeb (podmínky výběr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vatel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ýdaje vyplývající přímo z rozhodnutí o poskytnutí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jiné výdaje (notářské poplatky, znalecké posudky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5739-0551-42C2-B832-65474D3DF50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bné stavební ú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ň z přidané hodno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PH je uznatelným výdajem u neplát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látci DPH uvádí položky rozpočtu v cenách bez D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e veřejné s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A2B-9F67-48FB-B318-BD15F466C6F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Neuznatel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up zařízení, budov a mobilní infra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ční l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e vzniklé před oficiálním datem zaháj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dení běžného účtu, bankovní poplatky, uznatelné jsou jen výdaje spojené se zřízením a vedení běžného účtu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jemné, kdy je žadatel vlastníkem nemovitosti nebo ji užívá zda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e na práce a školení, které jsou povinné ze zák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FCC-A7C0-4BC3-AEA8-74AF2FBBF63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2060280"/>
            <a:ext cx="66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Děkuji za pozornost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1458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4360" y="1484280"/>
            <a:ext cx="4173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sfprovs@msmt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D05-4AE0-42C8-BEB6-6D09C29AAD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Administrator</dc:creator>
  <dc:description/>
  <dc:language>en-US</dc:language>
  <cp:lastModifiedBy>prejzovaa</cp:lastModifiedBy>
  <dcterms:modified xsi:type="dcterms:W3CDTF">2005-12-19T13:48:09Z</dcterms:modified>
  <cp:revision>13</cp:revision>
  <dc:subject/>
  <dc:title>Prezentace pro Leničk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1688881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ReviewingToolsShownOnce">
    <vt:lpwstr/>
  </property>
</Properties>
</file>